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3D21-D498-4702-ACCF-DE587182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F94-6AD9-4436-85F1-F75F28D1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F1B-8B62-4AD2-BA87-DD54411E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D87-586E-43EF-8855-B0065580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B5C-32D9-4CEB-B228-DF278BB2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CEFD-0521-4B78-B8E2-36CE2026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A78-E56D-4235-9A98-0FCD761E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802-FA61-453B-A848-E0F97375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C19D-5C3A-44AE-BC87-CA21C651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08F-B160-414C-9C88-D06C1AC1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B70-445A-450E-AEA8-247C08C1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605-5DFF-455D-A188-F733B655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4AF3-F999-4421-A29A-79E1897F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57F1-EE9E-4679-9AD8-F8E379B5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E26-93C0-4382-B31F-0492C293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B71-C51B-4F36-85D0-EADD96A4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60C-0E2D-41A7-BA23-6E7F2780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B2CB-D830-450B-8092-DE0FCE7A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2B2-D03C-44C6-8808-24597A65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736-08C2-4A54-AD5B-41007E79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0CB-804A-469B-A69D-CE3E82F6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326C-182D-4D72-9513-435251CA9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513-2690-4452-813D-77781F2E6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5D0C-A165-487C-85CE-A82A8BBD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B9CF-C1F8-4A84-818A-BF1421D6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E9A-AEDD-4079-8CD7-EA3875CEC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E3C8-79B0-415B-AAF5-FB37DDCC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779-AA74-49D0-B989-B68050E6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0FA-685E-41B8-9E45-07AC64DA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68D4-A324-45D9-98B2-98C91F79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BBCD-48CA-4406-972E-4F128984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89CD-9C66-4CA1-A94B-2C7838600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AF5-D0FE-4B33-B996-B4E21831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B3B-A849-43AA-94C9-53FB1293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18A1-24B2-4321-A295-C48EF257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574B-5883-45A9-B700-EDBCD5B8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4D3-B31B-4F3A-B40F-E3F7018B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E2B-8C0B-45F5-BF0B-13EC45E1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7FA-B3B6-49D4-BEA5-1090DB69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7B1C-5589-49F9-B804-1456C9BCC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CCEB-4B5F-4D49-87D4-2DF62B2F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3D0E-D508-47B8-AA26-3E97572F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D2B3-E747-4C14-811C-5650F7DD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F217-FE08-4148-B42E-055D068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5745-DF00-4FB8-9697-84B38CB5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8DCB-F84B-40DF-88A1-3632F238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5CB-4AC7-495B-B9BF-84CBC74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5BE-8031-43E0-9117-8A9EC9B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3D5-8F25-4A9D-864E-384081F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9DFE-48C7-4B3C-AFD0-508AA92C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6F0-CB02-45F5-8630-31852C8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5271-B320-42E8-8D4D-DF08F35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6E73-C520-4AFB-BEE1-3163346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B22E-545D-4C1C-94EC-AC02611D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1B3-97E6-4F73-80A7-8F71DD1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39D-9031-4422-B9AB-9953B7D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AAA6-E2C9-4D02-B335-A792D18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475A-21D0-4AC5-B66A-5DFD8A8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15D4-86C3-45A3-88F2-AA22E220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83F9-986E-4A4C-A0D8-86F7E8DC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A7DE-9DA4-4D14-A882-6D060C6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6462-010F-410C-9691-4ABB38DC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2696-9088-4BE7-9CFA-8D2DB94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EBD7-EFA1-4E8E-9C7B-CF7789A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3822-8B93-4B3C-AC30-C2B1C50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B065-B4BE-4EBE-9324-B3030FB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6DEE-6AD1-44E2-90A9-1A37E50D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2EAE-8790-4265-B76E-E8D320B25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O. Max Gardner III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Max Gardner’s</a:t>
            </a:r>
            <a:br>
              <a:rPr sz="6000"/>
            </a:b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Bankruptcy</a:t>
            </a:r>
            <a:br>
              <a:rPr sz="6000"/>
            </a:b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Boot Cam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ise Complaints about Billing Errors and Other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ain to Government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ile Bankrupt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e the Debt Collector for Illeg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Vulgar Voicemails Force Debt Collector to Pay $1.5 Mill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343400" y="2666880"/>
            <a:ext cx="4267080" cy="379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HE STATUTE OF LIM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vides a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Length of time varies by state (5 years is common; generally 3 – 10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most states, time runs from latt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cknowledgment of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3520" y="228600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How Max Would Deal              with a                                       Debt Collection C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2971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Hello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This is Jim with  Resurgent Capital and                    I am calling Max Gardn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3520" y="2743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would that be           O. Max Gardner III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3520" y="2743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Yes it would.                      Is this Mr. Gardner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22096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this is a Federal Debt Relief Agent and we are here at Mr. Gardner’s office investigating a murder scen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ey guys, watch that body    over there; we have not processed the vict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nderstanding and Stopping   Debt Collection Hara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orry about that interruption.  How long have you known</a:t>
            </a:r>
            <a:r>
              <a:rPr b="1" lang="en-US" sz="4000" spc="-1" strike="noStrike">
                <a:solidFill>
                  <a:srgbClr val="dadada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r. Gardner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Look, I really                  don’t know him at all.                   I was just ca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Well, sir, if you do not know Mr. Gardner at all, then why would you be calling hi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33520" y="22096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n I have your full name, your current location, your return number and the full name and address of your employer?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I think there has been a mistake here so I would just like to end this call.  Okay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90512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there has been no mistake here; there has been     a murder here.  Do you understand I am looking    directly at a dead ma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190512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I understand that but look, I was just calling him.  I don’t even know him.  I mean, I    never even heard of him before   I got the message to call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33520" y="15238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exactly who gave you a message to call Mr. Gardner and why did they want you to call right now?  Why would    you just call someone you        do not even know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33520" y="25146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Look, we both have a mutual client, and I was calling him about that client.”</a:t>
            </a:r>
            <a:r>
              <a:rPr b="1" lang="en-US" sz="4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3520" y="121932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How could you have    had a mutual client with           Mr. Gardner if you never even knew Mr. Gardner?  Sir, your story is very suspect.  Do you understand that your story is just not consistent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REDITOR REME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the case of a SECURED vehicle debt, creditors can repossess the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the case of a SECURED home debt, creditors can foreclose/ev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 the case of UNSECURED debt (credit card debt, medical bill, cell phone bill), creditors cannot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legall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do much to harm a consumer deb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3520" y="25146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Let’s just end the call  now.  I am very sorry about the murder.  Can we just hang up?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25146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I am going to have to record this call as evidence in this case.  Do you understand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33520" y="2743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I understand this is all a big misunderstanding.  Okay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3520" y="15238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I must now advise you that you have the right to remain silent; that if you make any further statements, such statements could and would be used against you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15238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at you have the right to          an attorney, and that if you cannot afford an attorney,       the court will appoint one to represent you.  Do you understand these rights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33520" y="213372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Hold on, hold on.      Where are we going here?           I was just calling.  Just a call.  What is this about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2971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Murd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Well, yes, but look.             I mean, I have nothing to do   with any murder.  Okay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243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can you tell me exactly where you were at   about 11:00 this morning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2743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DC:  “Why do you need          that informatio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REDITORS CAN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op doing business with the deb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port the default to credit report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gin a lawsuit to collect the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re are special remedies for coll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ax debts and student loan de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33520" y="1295280"/>
            <a:ext cx="8153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x:  “Sir, I cannot reveal confidential information about his investigation, but I can say that based on this call and    your lack of credible answers that you are currently a     person of interest to u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Max Gardner’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Bankruptcy Boot Cam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O Box 1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asar NC 280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704.418.2628 (Max Di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ww.maxbankruptcybootcamp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ww.maxgardnerlaw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gardner@maxgardner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UDGMENT-PROOF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xemp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ocial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elf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nemployment Benef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ome P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omestead Exe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perty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ome Funds in Bank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ld Car, except for Car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ome Household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5720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oking into Debt Collection Tac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62120" y="762120"/>
            <a:ext cx="4267080" cy="3792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cc"/>
                </a:solidFill>
                <a:uFillTx/>
                <a:latin typeface="Times New Roman"/>
              </a:rPr>
              <a:t>CONSUMER RULE 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DO NOT L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COLLE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IMIDATE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MON ILLEGAL DEBT COLLECTION CON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rsing, Obscenities, Name C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alling Relatives, Workplace, Neighb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king False Threats (Law Suit, Jail, Taking Away Social Security or Other Exemp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OCUMENT ALL ILLEG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8 WAYS TO STOP DEBT COLLECTION HARA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alk to the creditor about the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rite a “cease”  and “desist”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ave an attorney write a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egotiate work-out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egotiate lower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egotiate lower interest and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egotiate lower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7:58:49Z</dcterms:created>
  <dc:creator> </dc:creator>
  <dc:description/>
  <dc:language>en-US</dc:language>
  <cp:lastModifiedBy>O. Max Gardner III</cp:lastModifiedBy>
  <dcterms:modified xsi:type="dcterms:W3CDTF">2010-06-12T18:58:23Z</dcterms:modified>
  <cp:revision>6</cp:revision>
  <dc:subject/>
  <dc:title>Slide 1</dc:title>
</cp:coreProperties>
</file>